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52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2920" cy="340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52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1A719-75DC-4454-AB3C-2183E622576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16E16-8D09-493A-A5E1-57D222FE20F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CFD79-6222-441D-A4A0-2B8D408E04B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0747E-028E-45F5-944D-793545D141A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07D98-2DCE-45AB-84C0-08CB37B74FB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83FD9-47DD-4690-AA51-69A3F152E86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6EC8E-B35D-4D49-8A0D-5F857123F3B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01C0C-CC9C-435B-884B-580676BD1D0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3FC6E-FF25-4A50-9172-85624C4059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BF37D-24D3-46A0-9E9E-281C30589CE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C5D42-68A2-4B90-8434-5D0BDF2019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D7EC0-032A-4D51-B881-1EBF06D98A1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60AEC-7A97-4AB4-9F2D-27B8F8A15D8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B656D-7E65-4D18-8121-9570DC5E43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CEC0-0606-44C9-827D-DC09DC4D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FFB2-9246-445D-912E-E279BCA0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8470F-0DB4-436B-9B04-0AA27CF1C7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B4BF5-09A8-47F5-8C64-F124E3D5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3791-1048-4E98-8B4A-E7CBE8CA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E506D-6C65-4245-AD74-CF37EE24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C36EF-C0A7-4994-BA5F-D886B68D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05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25371-FF2B-4093-87C4-7DA644E4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F325C-3EA0-47AC-9C6A-81378D49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D4C3-F969-4991-B349-3E5D02D8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596D-2F94-4EDE-9314-39C7C52A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14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14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5B2201-D6EB-4D50-92E6-4A7C0ECE48E3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EL RELIEVE DE LAS ZONAS SU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1116000" y="3065400"/>
            <a:ext cx="6838920" cy="3240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su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900000" y="1197000"/>
            <a:ext cx="770436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pan unas tres cuartas partes de la superficie terrest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se ha conocido su relieve hasta hace poco, cuando la tecnología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 permitido observar los fondos marinos a gran profund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tacan las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plataformas continent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las llanuras abis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las dorsal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las fos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82692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zonas sumerg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9">
            <a:hlinkClick r:id="rId3" action="ppaction://hlinksldjump"/>
          </p:cNvPr>
          <p:cNvSpPr/>
          <p:nvPr/>
        </p:nvSpPr>
        <p:spPr>
          <a:xfrm>
            <a:off x="468360" y="3284640"/>
            <a:ext cx="143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lataforma contin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1476360" y="3645000"/>
            <a:ext cx="108252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5614920" y="2781360"/>
            <a:ext cx="1440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lanura abi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 flipH="1">
            <a:off x="5855760" y="3035160"/>
            <a:ext cx="412920" cy="12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4067280" y="2921040"/>
            <a:ext cx="826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or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4200120" y="3208320"/>
            <a:ext cx="22716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7002360" y="301320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 flipH="1">
            <a:off x="6756480" y="3301920"/>
            <a:ext cx="534960" cy="14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4140360" y="6237360"/>
            <a:ext cx="23763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5000b"/>
                </a:solidFill>
                <a:latin typeface="Arial"/>
              </a:rPr>
              <a:t>Pulsa en los rótulos</a:t>
            </a:r>
            <a:br>
              <a:rPr sz="1600"/>
            </a:br>
            <a:r>
              <a:rPr b="1" lang="es-ES" sz="1600" spc="-1" strike="noStrike">
                <a:solidFill>
                  <a:srgbClr val="c5000b"/>
                </a:solidFill>
                <a:latin typeface="Arial"/>
              </a:rPr>
              <a:t>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116000" y="2925720"/>
            <a:ext cx="6838920" cy="3240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su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34920" y="1274760"/>
            <a:ext cx="77407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prolongaciones de los continentes cubiertas por el océ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elen ser bastante llanas aunque van descendiendo en profundidad a medida que se adentran en el océ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minan en una fuerte pendiente llamada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talud continent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82692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plataformas continen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24000" y="2852640"/>
            <a:ext cx="143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lataforma contin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1476360" y="3284640"/>
            <a:ext cx="108252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965320" y="2781360"/>
            <a:ext cx="1803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alud contin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H="1">
            <a:off x="2838240" y="3132000"/>
            <a:ext cx="725400" cy="80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39196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4356000" y="630540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6839280" cy="3240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su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34920" y="1274760"/>
            <a:ext cx="73454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extensas llanuras de gran profundidad (normalmente más de 3000 metros de profundidad) que ocupan gran parte del océ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la puede haber volcanes y montañas que, en ocasiones, alcanzan gran altura y forman isl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llanuras abi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380360" y="3211560"/>
            <a:ext cx="14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lanura abi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H="1">
            <a:off x="6396120" y="3355920"/>
            <a:ext cx="9842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508720" y="2492280"/>
            <a:ext cx="14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sla volcá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5867280" y="2852640"/>
            <a:ext cx="11916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392436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436104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081080" y="2832120"/>
            <a:ext cx="683892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su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71640" y="1197000"/>
            <a:ext cx="75610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grandes cadenas de montañas lineales que se extienden miles de kilómetros, dividiendo las llanuras abisales. Pueden alcanzar grandes alturas y emerger en forma de islas, como en el caso de Island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su centro hay una hendidura llamada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rif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dor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753080" y="2708280"/>
            <a:ext cx="826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or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4167360" y="2954160"/>
            <a:ext cx="830160" cy="10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060720" y="2708280"/>
            <a:ext cx="826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if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3338640" y="3011400"/>
            <a:ext cx="438120" cy="14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3924360" y="6021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361040" y="60897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1081080" y="2617920"/>
            <a:ext cx="6838920" cy="32400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lieve de las zonas sumerg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934920" y="1274760"/>
            <a:ext cx="759780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hendiduras alargadas, estrechas y muy profun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ayores llegan a alcanzar más de 10 km de profundidad y cientos de kilómetros de longitu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s f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6967440" y="256536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 flipH="1">
            <a:off x="6721560" y="2854440"/>
            <a:ext cx="534960" cy="14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9"/>
          <p:cNvSpPr/>
          <p:nvPr/>
        </p:nvSpPr>
        <p:spPr>
          <a:xfrm>
            <a:off x="3995640" y="595008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7310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5465" y="3794"/>
                </a:lnTo>
                <a:lnTo>
                  <a:pt x="5465" y="17806"/>
                </a:lnTo>
                <a:lnTo>
                  <a:pt x="3803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4432320" y="601812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03:50Z</dcterms:modified>
  <cp:revision>49</cp:revision>
  <dc:subject/>
  <dc:title>Diapositiva 1</dc:title>
</cp:coreProperties>
</file>